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FAB-3B83-438F-B39B-A1A89004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98A-E9AC-45F6-BAB6-8D170D0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6B5-E530-4B9C-BE20-D75CF0BB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49E-CFE9-411F-9A16-7FC11471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39C-8FCA-4C3C-B656-340CF20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2D1-BF3C-4FA3-8D30-3F5A3892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79F-C5D6-4C7F-A729-C75164E6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CAA-67CE-4A39-A59C-73F1D60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A86-4BBA-4964-86C6-5C65AACA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E02-277E-4AA0-8BE7-B094627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032-847D-4938-A128-D4F0DD7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73C-7127-489B-B9A7-F3D5A5D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undowindo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ITC Officina Sans Book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ITC Officina Sans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1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2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3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4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ITC Officina Sans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TC Officina Sans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008-86E3-419B-86A0-B86ACBD35DC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8191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ITC Officina Sans Book"/>
              </a:rPr>
              <a:t>Microsoft Outlook Express: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ITC Officina Sans Book"/>
              </a:rPr>
              <a:t>Desvendando os Segredo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ITC Officina Sans Book"/>
              </a:rPr>
              <a:t>do seu E-mail</a:t>
            </a:r>
            <a:endParaRPr b="0" lang="en-US" sz="40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4952880"/>
            <a:ext cx="7315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LESTR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D CASTELLO [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d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stell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com.br (67) 321-7777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EIDSON LIMA [cliqueduplo@terra.com.br (67) 342-6090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trocinadores2" descr="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clo de Palestras Clique Dup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74320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io-eletrônico é uma ferramenta para a comunicação entre pesso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IDENTIDADES E CONTA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362320"/>
            <a:ext cx="8610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dicionando uma nova ident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nfigurando uma conta de 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lterando as configurações de uma ident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lternando entre ident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Gerenciando ident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IMPORTAÇÃO E EXPORTAÇÃ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DE ITENS DO OUTLOOK EXPRES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0968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mportando Catálogo de Endere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mportanto outras listas de endere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mportando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mportando configurações de contas de 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mportando configurações de contas de notí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Exportando catálogo de endere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Exportando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APARÊNCIA DO PROGRAMA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362320"/>
            <a:ext cx="8610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Personalizando o lay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Personalizando a barra de ferram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lterando as colunas de inform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ALTERANDO AS CONFIGURAÇÕE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DO OUTLOOK EXPRES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8610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Dicas para facilitar o uso do programa e evitar problemas comuns na comunicação via correio-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ORGANIZAÇÃO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362320"/>
            <a:ext cx="8610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criar pastas para organizar o Outlook Expr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O SISTEMA DE BUSC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DO OUTLOOK EXPRES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localizar as mensagens arquivadas no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ARQUIVOS ANEXO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rigem do recu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Por que evitar (vírus, banda, memór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nexando arquivos nas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brindo anexos recebidos em e-m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Salvando anex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ASSINATURA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3623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ssinaturas digit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riando assina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indo assinaturas auto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indo assinaturas manu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indo sua assinatura manuscrita ao 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CATÁLOGO DE ENDEREÇO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dicione contatos ao Catálogo de Endereços manu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dicione contatos ao Catálogo de Endereços a partir de mensagens receb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25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CARTÕES DE VISITA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 uso de cart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riação, alteração e envio dos cart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ção manual e automática de cartões de vis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COMUNICAÇÃO COLETIVA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Listas de discuss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Grupos de notí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se inscrever em grupos de notí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ler as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postar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RRESPONDÊNCIAS RECEBIDAS</a:t>
            </a:r>
            <a:endParaRPr b="0" lang="en-US" sz="36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Faz-se a leitura (pelo remetente, pelo assunto e pelo corpo da mensag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Apaga-se a 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Arquiva-se a 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Responde-se a mensagem e depois ela é apa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Responde-se a mensagem e depois ela é arqu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Encaminha-se a mensagem e depois ela é apa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ITC Officina Sans Book"/>
              </a:rPr>
              <a:t>Encaminha-se a mensagem e depois ela é arqu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RRESPONDÊNCIAS RECEBIDAS</a:t>
            </a:r>
            <a:endParaRPr b="0" lang="en-US" sz="36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13372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encaminhar uma mensagem receb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responder uma mensagem endereçada apenas para voc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responder apenas para o remetente de uma mensagem com vários destinatá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responder para todos os destinatários de uma mensagem cole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apagar uma mensagem receb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ITC Officina Sans Book"/>
              </a:rPr>
              <a:t>Como arquivar uma mensagem receb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ENVIO DE MENSAGEN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enviar uma mensagem para um destinatário ape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enviar mensagens para vários destinatários em lista abe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enviar mensagens para vários destinatários em lista f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REGRAS PARA MENSAGEN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rie mensagens automáticas para quem lhe escr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rganize os e-mails recebidos usando fil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rie respostas auto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BLOQUEIO DE REMETENTE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Bloqueando as mensagens de remetentes indesej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Bloqueando domínios indesej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Gerenciando a lista de remetentes bloqu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PAPEL DE CARTA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usar os papéis de carta que vem com o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criar um novo papel de ca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CONFIRMAÇÃO DE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RECEBIMENTO DE MENSAGEN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Solicitando a confirmação dos destinatá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nfirmando o recebimento de mensagens receb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GENERALIDADE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loque um som de fundo em seu e-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Reduzindo o tempo on-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3293640" y="61920"/>
            <a:ext cx="2341440" cy="295092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2950920"/>
              <a:gd name="textAreaBottom" fmla="*/ 295128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MENSAGENS HTML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indo hyper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Inserindo arquivos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ENCAMINHAMENTO DE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MENSAGENS RECEBIDA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o encaminhar mens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CONTROLANDO O LOCAL DE ARMAZENAGEM DAS MENSAGEN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3623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nde as mensagens ficam guard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Alterando o local de armazenagem dos e-m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Recuperando os e-m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SEGURANÇA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uidados com arquivos anex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Vírus e (trojans) cavalos-de-tró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Com ho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ITC Officina Sans Book"/>
              </a:rPr>
              <a:t>GENERALIDADES</a:t>
            </a:r>
            <a:endParaRPr b="0" lang="en-US" sz="32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3623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s emoti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Regras de netiqu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 que é spam e como conviver com 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TC Officina Sans Book"/>
              </a:rPr>
              <a:t>O que é hoax e como conviver com 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609480"/>
            <a:ext cx="7696080" cy="5639040"/>
          </a:xfrm>
          <a:prstGeom prst="rect">
            <a:avLst/>
          </a:prstGeom>
          <a:solidFill>
            <a:srgbClr val="01b0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12760"/>
            <a:ext cx="3124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98400" y="182880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E-ma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0" b="3710"/>
          <a:stretch/>
        </p:blipFill>
        <p:spPr>
          <a:xfrm>
            <a:off x="7372440" y="151452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30492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10000" y="2884320"/>
            <a:ext cx="441936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351160"/>
            <a:ext cx="365760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480" y="243828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Web 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960" y="3701880"/>
            <a:ext cx="56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Telefones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+55 67) 9981-9081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      321-777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960" y="444816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Correspondências:</a:t>
            </a:r>
            <a:br>
              <a:rPr sz="2800"/>
            </a:b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ostal 1 Agência Central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EP 79002-970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ampo Grande MS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21680" y="1455840"/>
            <a:ext cx="1517400" cy="2133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0666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ticulista, palestrante e consultor especializado em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24852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57200" y="378000"/>
            <a:ext cx="0" cy="586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3581280"/>
            <a:ext cx="0" cy="266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9996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96720"/>
            <a:ext cx="0" cy="105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76560" y="179856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ast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09440" y="17985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3560" y="175248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5320" y="2362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Cast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7960" y="23623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67880" y="23623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71680" y="3084480"/>
            <a:ext cx="647640" cy="6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81160" y="3124080"/>
            <a:ext cx="30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IN: 1136225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3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25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25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5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875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875"/>
                            </p:stCondLst>
                            <p:childTnLst>
                              <p:par>
                                <p:cTn id="2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40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9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325"/>
                            </p:stCondLst>
                            <p:childTnLst>
                              <p:par>
                                <p:cTn id="2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75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625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15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65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65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55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175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4950"/>
                            </p:stCondLst>
                            <p:childTnLst>
                              <p:par>
                                <p:cTn id="3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2514600"/>
            <a:ext cx="8381880" cy="1523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440" y="242244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000" spc="-1" strike="noStrike">
                <a:solidFill>
                  <a:srgbClr val="ff3300"/>
                </a:solidFill>
                <a:latin typeface="Times New Roman"/>
              </a:rPr>
              <a:t>Muito obrigado!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2320" y="380880"/>
            <a:ext cx="3352680" cy="1981440"/>
          </a:xfrm>
          <a:prstGeom prst="wedgeEllipseCallout">
            <a:avLst>
              <a:gd name="adj1" fmla="val -17138"/>
              <a:gd name="adj2" fmla="val 7492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80880"/>
            <a:ext cx="3352680" cy="1981440"/>
          </a:xfrm>
          <a:prstGeom prst="wedgeEllipseCallout">
            <a:avLst>
              <a:gd name="adj1" fmla="val -72634"/>
              <a:gd name="adj2" fmla="val 742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93024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Ué?! Letras maiúsculas?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724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724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371484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708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ww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708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25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8120" y="251460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3300"/>
                </a:solidFill>
                <a:latin typeface="Times New Roman"/>
              </a:rPr>
              <a:t>11362257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64312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8400" y="182880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E-ma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0" r="0" b="3710"/>
          <a:stretch/>
        </p:blipFill>
        <p:spPr>
          <a:xfrm>
            <a:off x="7372440" y="151452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30492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10000" y="2884320"/>
            <a:ext cx="441936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6920" y="2351160"/>
            <a:ext cx="365760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7480" y="243828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Web 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960" y="3701880"/>
            <a:ext cx="56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Telefones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+55 67) 9981-9081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      321-777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960" y="444816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Correspondências:</a:t>
            </a:r>
            <a:br>
              <a:rPr sz="2800"/>
            </a:b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ostal 1 Agência Central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EP 79002-970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ampo Grande MS Bra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21680" y="1455840"/>
            <a:ext cx="1517400" cy="2133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0666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ticulista, palestrante e consultor especializado em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" y="378000"/>
            <a:ext cx="0" cy="586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3581280"/>
            <a:ext cx="0" cy="266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9996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396720"/>
            <a:ext cx="0" cy="105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6560" y="179856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ast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09440" y="17985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3560" y="175248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5320" y="2362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Cast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7960" y="23623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7880" y="23623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680" y="3084480"/>
            <a:ext cx="647640" cy="6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1160" y="3124080"/>
            <a:ext cx="30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IN: 1136225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3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25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7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25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5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875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875"/>
                            </p:stCondLst>
                            <p:childTnLst>
                              <p:par>
                                <p:cTn id="1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4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9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325"/>
                            </p:stCondLst>
                            <p:childTnLst>
                              <p:par>
                                <p:cTn id="1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625"/>
                            </p:stCondLst>
                            <p:childTnLst>
                              <p:par>
                                <p:cTn id="1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65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65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655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175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7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495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022640"/>
            <a:ext cx="899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99"/>
                </a:solidFill>
                <a:latin typeface="Times New Roman"/>
              </a:rPr>
              <a:t>www.</a:t>
            </a:r>
            <a:r>
              <a:rPr b="1" lang="en-US" sz="4500" spc="-1" strike="noStrike">
                <a:solidFill>
                  <a:srgbClr val="003399"/>
                </a:solidFill>
                <a:latin typeface="Times New Roman"/>
              </a:rPr>
              <a:t>CidCastello</a:t>
            </a:r>
            <a:r>
              <a:rPr b="0" lang="en-US" sz="4500" spc="-1" strike="noStrike">
                <a:solidFill>
                  <a:srgbClr val="003399"/>
                </a:solidFill>
                <a:latin typeface="Times New Roman"/>
              </a:rPr>
              <a:t>.com.br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04800" y="4724280"/>
            <a:ext cx="6172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3886200" cy="15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50"/>
                            </p:stCondLst>
                            <p:childTnLst>
                              <p:par>
                                <p:cTn id="1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15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bf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 QUE PRETENDEMOS COM</a:t>
            </a:r>
            <a:endParaRPr b="0" lang="en-US" sz="3600" spc="-1" strike="noStrike">
              <a:solidFill>
                <a:srgbClr val="ffffff"/>
              </a:solidFill>
              <a:latin typeface="ITC Officina Sans Book"/>
            </a:endParaRPr>
          </a:p>
          <a:p>
            <a:pPr marL="2296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TA PALESTRA?</a:t>
            </a:r>
            <a:endParaRPr b="0" lang="en-US" sz="3600" spc="-1" strike="noStrike">
              <a:solidFill>
                <a:srgbClr val="ffffff"/>
              </a:solidFill>
              <a:latin typeface="ITC Officina Sans Book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432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xiliar os presentes a usar o programa Microsoft Outlook Express com eficiência e eficác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0:45:07Z</dcterms:created>
  <dc:creator>NELSON</dc:creator>
  <dc:description/>
  <dc:language>en-US</dc:language>
  <cp:lastModifiedBy>Cid Castello</cp:lastModifiedBy>
  <dcterms:modified xsi:type="dcterms:W3CDTF">2003-08-02T17:20:53Z</dcterms:modified>
  <cp:revision>837</cp:revision>
  <dc:subject/>
  <dc:title>Apresentação do PowerPoint</dc:title>
</cp:coreProperties>
</file>